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C161-2516-4B7A-B83E-5795B3A40A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8188-10A1-4022-8FB6-C1C8ACB0C6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654-ABF0-4C34-AE49-D6411F23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00A-8CAE-4A16-98EC-C3FECC8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021-08F7-4590-A19C-62E342EF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786-E989-4D6B-831E-C11BAAC9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D7F-A851-4571-9790-A5229FC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005-6B54-44F5-AF2B-C84696A4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86D-2A08-4E16-B675-5310C4D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6F4-54B4-4A70-81F3-1E126517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206-0460-407A-B0E8-0ED2180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AB0-36B0-4FE5-948A-740D1CB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B4A-8830-48FB-9EDC-EE1B4D4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670-4785-459C-ADA8-DE127EC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50000">
              <a:srgbClr val="ffffff"/>
            </a:gs>
            <a:gs pos="100000">
              <a:srgbClr val="0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527-42FF-4618-A217-98E84650AC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IAP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2D1-6722-47EC-9CC6-72623D894AA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11280" y="220500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3200"/>
            </a:br>
            <a:br>
              <a:rPr sz="1000"/>
            </a:b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Arial Narrow"/>
              </a:rPr>
              <a:t>ESCUELA DE POST GRADO</a:t>
            </a:r>
            <a:br>
              <a:rPr sz="36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s-MX" sz="3200" spc="-1" strike="noStrike">
                <a:solidFill>
                  <a:srgbClr val="000099"/>
                </a:solidFill>
                <a:latin typeface="Trebuchet MS"/>
              </a:rPr>
              <a:t> PSICOLOGÍA  EDUCATIVA 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UNIDAD II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  PSICOLOGÍA Y SISTEMAS DE ENSEÑANZA</a:t>
            </a:r>
            <a:br>
              <a:rPr sz="4000"/>
            </a:br>
            <a:br>
              <a:rPr sz="2800"/>
            </a:b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5 Rectángulo" descr=""/>
          <p:cNvPicPr/>
          <p:nvPr/>
        </p:nvPicPr>
        <p:blipFill>
          <a:blip r:embed="rId1"/>
          <a:stretch/>
        </p:blipFill>
        <p:spPr>
          <a:xfrm>
            <a:off x="4121280" y="5877000"/>
            <a:ext cx="987120" cy="51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2B1-88EC-4BBD-AEFE-91874E8ECE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0" y="1339920"/>
            <a:ext cx="4114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50021"/>
                </a:solidFill>
                <a:latin typeface="Times New Roman"/>
              </a:rPr>
              <a:t>Objetiv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560" y="3119040"/>
            <a:ext cx="6605640" cy="150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iscriminar y valorar los componentes de un sistema general de enseñanz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708F-BAD1-4E3E-AB86-15610055061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610000" y="304920"/>
            <a:ext cx="3495600" cy="5666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imes New Roman"/>
              </a:rPr>
              <a:t>SISTEMA GENERAL DE ENSEÑ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319800" y="1871640"/>
            <a:ext cx="2567160" cy="5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ENSEÑ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12720" y="1833480"/>
            <a:ext cx="2782800" cy="5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ADMINIST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3362400"/>
            <a:ext cx="99072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INFRAES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TRUCTUR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FÍS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66680" y="3352680"/>
            <a:ext cx="106704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ECONOM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09680" y="3352680"/>
            <a:ext cx="99072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HUM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352680" y="3352680"/>
            <a:ext cx="137160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PROGRAMAS DE CAPACITACION Y EDUC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CONTINU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764240" y="3352680"/>
            <a:ext cx="1341360" cy="21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RECURSOS PARA ENSEÑAN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Bibliote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Hemerote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Base de Datos CD-Room: Psycline, Medline, Lila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Laboratorio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248520" y="3352680"/>
            <a:ext cx="137160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 DE APRENDIZ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731000" y="3352680"/>
            <a:ext cx="141300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S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TEN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NSTRUCCIO-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7086600" y="5181480"/>
            <a:ext cx="121932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Tahoma"/>
              </a:rPr>
              <a:t>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Tahoma"/>
              </a:rPr>
              <a:t>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Tahoma"/>
              </a:rPr>
              <a:t>(Currícu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471600" y="2786040"/>
            <a:ext cx="49212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71600" y="2786040"/>
            <a:ext cx="0" cy="425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4037040" y="2786040"/>
            <a:ext cx="0" cy="425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2824200" y="2814480"/>
            <a:ext cx="0" cy="4240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392800" y="2786040"/>
            <a:ext cx="0" cy="425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1611360" y="2398680"/>
            <a:ext cx="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1968480" y="946080"/>
            <a:ext cx="213984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4394160" y="946080"/>
            <a:ext cx="313848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 flipH="1">
            <a:off x="6989400" y="2513160"/>
            <a:ext cx="50004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45400" y="2503440"/>
            <a:ext cx="57168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6781680" y="4648320"/>
            <a:ext cx="0" cy="10126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8610480" y="4648320"/>
            <a:ext cx="0" cy="9144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8305920" y="5562720"/>
            <a:ext cx="30456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571680" y="6134040"/>
            <a:ext cx="81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Tahoma"/>
              </a:rPr>
              <a:t>Figura Nº 1 : Esquema de Componentes de un Sistema General de Enseñanza.</a:t>
            </a:r>
            <a:br>
              <a:rPr sz="1600"/>
            </a:br>
            <a:r>
              <a:rPr b="1" lang="es-ES" sz="1600" spc="-1" strike="noStrike">
                <a:solidFill>
                  <a:srgbClr val="a50021"/>
                </a:solidFill>
                <a:latin typeface="Tahoma"/>
              </a:rPr>
              <a:t>                       Revisado  Anicama, J. 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781680" y="5638680"/>
            <a:ext cx="3049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8" descr="ORGANIZO"/>
          <p:cNvPicPr/>
          <p:nvPr/>
        </p:nvPicPr>
        <p:blipFill>
          <a:blip r:embed="rId1"/>
          <a:stretch/>
        </p:blipFill>
        <p:spPr>
          <a:xfrm>
            <a:off x="274680" y="274680"/>
            <a:ext cx="919080" cy="129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2" name="DIAPO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8D6C-7032-4D73-BB0B-7EF03B41515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2"/>
          <p:cNvSpPr/>
          <p:nvPr/>
        </p:nvSpPr>
        <p:spPr>
          <a:xfrm>
            <a:off x="3419640" y="907920"/>
            <a:ext cx="2592360" cy="136872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3"/>
          <p:cNvSpPr/>
          <p:nvPr/>
        </p:nvSpPr>
        <p:spPr>
          <a:xfrm>
            <a:off x="539640" y="3645000"/>
            <a:ext cx="2590920" cy="143964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"/>
          <p:cNvSpPr/>
          <p:nvPr/>
        </p:nvSpPr>
        <p:spPr>
          <a:xfrm>
            <a:off x="6227640" y="3573360"/>
            <a:ext cx="2519640" cy="1440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Plan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1979640" y="2205000"/>
            <a:ext cx="2158920" cy="144000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292720" y="2205000"/>
            <a:ext cx="2158920" cy="136836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132000" y="4365720"/>
            <a:ext cx="3097440" cy="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68360" y="5516640"/>
            <a:ext cx="8139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ahoma"/>
              </a:rPr>
              <a:t>Figura Nº 2 : Elementos básicos de un siste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a50021"/>
                </a:solidFill>
                <a:latin typeface="Tahoma"/>
              </a:rPr>
              <a:t>enseñanza-aprendizaj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6:21:08Z</dcterms:created>
  <dc:creator>softime</dc:creator>
  <dc:description/>
  <dc:language>en-US</dc:language>
  <cp:lastModifiedBy>jose.anicama</cp:lastModifiedBy>
  <dcterms:modified xsi:type="dcterms:W3CDTF">2009-04-03T19:23:50Z</dcterms:modified>
  <cp:revision>55</cp:revision>
  <dc:subject/>
  <dc:title>Sin título de diapositiva</dc:title>
</cp:coreProperties>
</file>